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033-AE97-4B45-82DB-66765FF6C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4B6B-4267-4B63-909A-5E163939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4A61-3CC0-4AAD-A4CD-111E8A54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3767-8E7B-4C18-83B1-D19F962C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A50-7E64-414F-A394-72E4FBC8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D19F-BB15-44D4-9668-71F3B3C11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ECE-BCED-4C59-BA11-0D717260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F03-A6BF-4600-BC98-327E6FEE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ACE8-97EB-40B1-9FDA-A366DBC8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3AD-F0D8-4DB7-A9E8-22283E36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B0D-0700-406E-92F8-3CC68D4E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E2E8-8E39-4109-BF4D-FEEB651A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8F68-2736-4D43-813C-90E9566BDD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38040" y="1122480"/>
            <a:ext cx="742932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3300"/>
                </a:solidFill>
                <a:latin typeface="Arial"/>
              </a:rPr>
              <a:t>Натиск-2</a:t>
            </a:r>
            <a:endParaRPr b="0" lang="en-US" sz="6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38040" y="3601800"/>
            <a:ext cx="74293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ЕДЛОЖЕНИЯ ПО РЕАЛ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42560"/>
            <a:ext cx="990612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СПО анализа журналов аудита ИБ,                                 </a:t>
            </a: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СПО аутентификации и управления пользователями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36600" y="1308240"/>
          <a:ext cx="9264600" cy="3504960"/>
        </p:xfrm>
        <a:graphic>
          <a:graphicData uri="http://schemas.openxmlformats.org/drawingml/2006/table">
            <a:tbl>
              <a:tblPr/>
              <a:tblGrid>
                <a:gridCol w="5524560"/>
                <a:gridCol w="3740040"/>
              </a:tblGrid>
              <a:tr h="398880"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ункции СП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ложение по ре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988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бор данных из журналов собы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3"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zuh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lastic St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038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дение системы признаков ИБ и фильтрация событий согласно данным признак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ределение критических событий, оповещ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дение учетных записей пользователей, ведение прав пользователей на доступ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3"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eIPA (389 Directory Server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IT’s Kerberos 5, DogTag)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ализаци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SO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амках работы 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ользование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AM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88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нократная аутентификация пользов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 параметров АРМ разработч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3" name="Объект 2"/>
          <p:cNvSpPr/>
          <p:nvPr/>
        </p:nvSpPr>
        <p:spPr>
          <a:xfrm>
            <a:off x="374760" y="4938840"/>
            <a:ext cx="9218520" cy="17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 31.01.2020 Исполнитель определяет перечень средств для анализа электронных журналов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событий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удита информационной безопасност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 31.01.2020 Исполнитель разрабатывает формат для экспорта информации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о критических события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 31.01.2020 Исполнитель разрабатывает описание технологии однократной аутентификации пользовател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16B5-A198-4F7F-A3C3-67B2EA00A6BA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4680" y="141120"/>
            <a:ext cx="9215640" cy="108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ПО выявления аномалий сетевых взаимодействий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7240" y="1273320"/>
          <a:ext cx="8544240" cy="2590560"/>
        </p:xfrm>
        <a:graphic>
          <a:graphicData uri="http://schemas.openxmlformats.org/drawingml/2006/table">
            <a:tbl>
              <a:tblPr/>
              <a:tblGrid>
                <a:gridCol w="5027760"/>
                <a:gridCol w="3516480"/>
              </a:tblGrid>
              <a:tr h="398880"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ункции СП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ложение по ре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9888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ись сетевого траф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3"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icat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nort, Molo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0380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стройка отслеживаемых параметров траф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дение перечня признаков аномалий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тевом трафике и выявление аномал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смотр фрагментов сетевого траф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resh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77" name="Объект 2"/>
          <p:cNvSpPr/>
          <p:nvPr/>
        </p:nvSpPr>
        <p:spPr>
          <a:xfrm>
            <a:off x="681120" y="4167360"/>
            <a:ext cx="85741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о 31.08.2019 Исполнитель разрабатывает формат признаков аномалий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етевого трафи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о 30.09.2019 Исполнитель разрабатывает перечень отслеживаемых параметров сетевого трафи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о 30.11.2019 Исполнитель разрабатывает перечень средств выявления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номалий сетевых взаимодействий, с учетом их производи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F972-EDBC-4530-9341-58BE78BD2EE6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0760" y="128520"/>
            <a:ext cx="8543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ПО контроля целостности программного код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368280" y="1233360"/>
          <a:ext cx="9188640" cy="3416400"/>
        </p:xfrm>
        <a:graphic>
          <a:graphicData uri="http://schemas.openxmlformats.org/drawingml/2006/table">
            <a:tbl>
              <a:tblPr/>
              <a:tblGrid>
                <a:gridCol w="4984920"/>
                <a:gridCol w="4203720"/>
              </a:tblGrid>
              <a:tr h="414000"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ункции С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ложение по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870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 целостности кода ОС, СПО, О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SEC HI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2444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 целостности кода микропрограммного обеспечения аппаратных компонентов компьютеров (материнских плат, сетевых карт, графических карт, жестких дисков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ируется применение ПО производителей ТС, используемых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або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19124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ь целостности данных передаваемых через КО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ализуется с использованием научно-технического задела, получаемого в ходе выполнения ОКР «Камертон»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апрель 2019 – январь 20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81" name="Объект 2"/>
          <p:cNvSpPr/>
          <p:nvPr/>
        </p:nvSpPr>
        <p:spPr>
          <a:xfrm>
            <a:off x="384120" y="4809960"/>
            <a:ext cx="9172800" cy="16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о 31.08.2019 Исполнитель разрабатывает перечень ТС из состава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ОО ПТК «Натиск-2», на которых будет осуществляться контроль целостности программного ко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о 31.08.2019 Исполнитель разрабатывает перечень методов и средств контроля целостности программного ко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F059-1243-4F5B-B1A3-865143DE2972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0760" y="139320"/>
            <a:ext cx="854388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ПО анализа СпПС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76200" y="888840"/>
          <a:ext cx="9180720" cy="5507280"/>
        </p:xfrm>
        <a:graphic>
          <a:graphicData uri="http://schemas.openxmlformats.org/drawingml/2006/table">
            <a:tbl>
              <a:tblPr/>
              <a:tblGrid>
                <a:gridCol w="5308560"/>
                <a:gridCol w="3872160"/>
              </a:tblGrid>
              <a:tr h="368280"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ункции С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ложение по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1692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зассемблирование кода СпПС, удаленная отладка кода СпПС на различных платформах, декомпилирование кода СпП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2"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A Pr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плагины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G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1692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оставление программного интерфейса для создания расширений (плагинов) специального анализа кода СпП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трафика СпП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och + Elastic 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82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матическое выявление характеристик СпП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ckoo Sandbo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1692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матизированное создание защищенной среды исполнения кода СпП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ckoo Sandbo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Mware vCSA Enterprise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ckoo Sandbox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+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tualBox + Vmclo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26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зможность применения облачных антивирусных технологий для выявления СпП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3"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Hive, Cortex, MISP с возможностью получения индикаторов компрометаций от других CERT          во внешнем конту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26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матическая классификацию СпПС на основе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х характерис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дение реестра СпП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D3D8-6905-46C3-8F1A-376853A303AD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0760" y="185400"/>
            <a:ext cx="854388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ПО анализа СпПС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0760" y="1218960"/>
            <a:ext cx="85438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7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До 30.09.2019 Исполнитель разрабатывает перечень средств              анализа СпП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До 30.09.2019 Исполнитель разрабатывает структуру реестра СпПС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Calibri"/>
              </a:rPr>
              <a:t>(реестр СпПС должен обеспечивать хранение и предоставление данных                                      по образцам кода СпПС, файлам анализа кода СпПС, комментариям в виде документов текстового формата, снимкам зараженных виртуальных сред, образам зараженных дисков, образам «склеенных» сессий трафика, описанию методов разработки СпПС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До 30.09.2019 Исполнитель разрабатывает перечень характеристик СпПС для проведения автоматической классификации                                   создания реестра СпП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800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f4e79"/>
                </a:solidFill>
                <a:latin typeface="Calibri"/>
              </a:rPr>
              <a:t>для реализации ключевых архитектурных решений СПО анализа СпПС Исполнитель планирует привлекать специалистов компании «Перспективный мониторинг» (входит в группу компаний «Инфотекс»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C2001-4569-4B96-AE7C-08912E6D2D29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39840" y="144360"/>
            <a:ext cx="9269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ПО печати и вывода данных на МН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0760" y="1582560"/>
            <a:ext cx="854388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ирование выходных документов на основе шаблон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ирование паспортов СпПС в едином форма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ентрализованный вывод документов и паспортов СпПС на печать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Централизованный вывод документов и паспортов СпПС на М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правление заданиями вывода на печать и М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втоматический контроль успешности выполнения операции вывода на МНИ при завершении задан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втоматический учет операций печати и вывода данных на М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f4e79"/>
                </a:solidFill>
                <a:latin typeface="Calibri"/>
              </a:rPr>
              <a:t>для реализации СПО печати и вывода данных на МНИ Исполнитель планирует использовать научно-технический задел, полученный в ходе выполнения ОКР «Гадалка-М», </a:t>
            </a:r>
            <a:br>
              <a:rPr sz="2200"/>
            </a:br>
            <a:r>
              <a:rPr b="0" i="1" lang="ru-RU" sz="2200" spc="-1" strike="noStrike">
                <a:solidFill>
                  <a:srgbClr val="1f4e79"/>
                </a:solidFill>
                <a:latin typeface="Calibri"/>
              </a:rPr>
              <a:t>ОКР «Моралист», аванпроекта «Гамбит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44FB-B8BC-4551-AA05-EC1CEE44AD85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91880"/>
            <a:ext cx="9906120" cy="112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ПО информационно-аналитического портал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554040" y="5210280"/>
            <a:ext cx="874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e79"/>
                </a:solidFill>
                <a:latin typeface="Calibri"/>
              </a:rPr>
              <a:t>для реализации единого портала мониторинга и управления работой СПО Исполнитель предлагает включить, по согласованию с Заказчиком, в состав СПО информационно-аналитического портала соответствующие пользовательские интерфейсы прочих СПО ПТК «Натиск-2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Object 2" descr=""/>
          <p:cNvPicPr/>
          <p:nvPr/>
        </p:nvPicPr>
        <p:blipFill>
          <a:blip r:embed="rId1"/>
          <a:stretch/>
        </p:blipFill>
        <p:spPr>
          <a:xfrm>
            <a:off x="758880" y="1271520"/>
            <a:ext cx="8313840" cy="38419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FEEE-8781-44DA-93C2-FC0472D84436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0760" y="128520"/>
            <a:ext cx="8543880" cy="114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ПО информационного обмена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68400" y="1338120"/>
            <a:ext cx="798336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едение метасхемы предметной области разработки СпПС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ля описания информ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мпорт и экспорт информации в виде файлов формата обмена данными для обеспечения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заимодействия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 виртуальными компьютерами Заказчик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ормато-логический контроль информ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1f4e79"/>
                </a:solidFill>
                <a:latin typeface="Calibri"/>
              </a:rPr>
              <a:t>для реализации СПО информационного обмена Исполнитель</a:t>
            </a:r>
            <a:r>
              <a:rPr b="0" i="1" lang="en-US" sz="26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ru-RU" sz="2600" spc="-1" strike="noStrike">
                <a:solidFill>
                  <a:srgbClr val="1f4e79"/>
                </a:solidFill>
                <a:latin typeface="Calibri"/>
              </a:rPr>
              <a:t>планирует использовать научно-технических задел по обработке паспортов специальных материалов, полученный в ходе выполнения НИОКР</a:t>
            </a:r>
            <a:r>
              <a:rPr b="0" i="1" lang="en-US" sz="26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ru-RU" sz="2600" spc="-1" strike="noStrike">
                <a:solidFill>
                  <a:srgbClr val="1f4e79"/>
                </a:solidFill>
                <a:latin typeface="Calibri"/>
              </a:rPr>
              <a:t>«Гадалка-М», «Реалист»,</a:t>
            </a:r>
            <a:r>
              <a:rPr b="0" i="1" lang="en-US" sz="26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ru-RU" sz="2600" spc="-1" strike="noStrike">
                <a:solidFill>
                  <a:srgbClr val="1f4e79"/>
                </a:solidFill>
                <a:latin typeface="Calibri"/>
              </a:rPr>
              <a:t>«Наставник», аванпроекта «Енот» и др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77858-8A5B-42A4-A81D-5C37207B7226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91880"/>
            <a:ext cx="99061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ПО распределенного индексирования данных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8680" y="1144440"/>
            <a:ext cx="854388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ексирование данных в таблицах СУБД в режимах полного индексирования данных БД и индексирования изменений (обновлений, удалений) данных в БД, в т.ч. BLOB-полей, содержащих HTML-документы, DOC-документы и PDF-документы, а также числовых, строковых (текстовых) полей и полей, содержащих дату и врем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ексирование файлов из каталогов файловой системы, с учетом заданной струк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ексирование электронных журналов событий аудита информационной безопасности, в т.ч. поступивших от СПО анализа электронных журналов событий аудита информационной безопас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ексирование данных реестра СпП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матизированная модификация поисковых индексов, в том числе: дополнение и обновление индексов, очистка индек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копление с дополнением и обновлением данных в хранилище по мере их индексирования в режиме, близком к режиму «реального времен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Хранение данных в нереляционном хранилищ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6080" indent="-226080" algn="just">
              <a:lnSpc>
                <a:spcPct val="7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e79"/>
                </a:solidFill>
                <a:latin typeface="Calibri"/>
              </a:rPr>
              <a:t>для реализации СПО распределенного индексирования данных Исполнитель планирует использовать научно-технических задел, полученный в ходе выполнения НИОКР</a:t>
            </a:r>
            <a:r>
              <a:rPr b="0" i="1" lang="en-US" sz="20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1f4e79"/>
                </a:solidFill>
                <a:latin typeface="Calibri"/>
              </a:rPr>
              <a:t>в интересах ФГКУ «В</a:t>
            </a:r>
            <a:r>
              <a:rPr b="0" i="1" lang="en-US" sz="2000" spc="-1" strike="noStrike">
                <a:solidFill>
                  <a:srgbClr val="1f4e79"/>
                </a:solidFill>
                <a:latin typeface="Calibri"/>
              </a:rPr>
              <a:t>/</a:t>
            </a:r>
            <a:r>
              <a:rPr b="0" i="1" lang="ru-RU" sz="2000" spc="-1" strike="noStrike">
                <a:solidFill>
                  <a:srgbClr val="1f4e79"/>
                </a:solidFill>
                <a:latin typeface="Calibri"/>
              </a:rPr>
              <a:t>ч 71330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B8C7-2101-453A-B7A5-3531D417D39E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0760" y="173160"/>
            <a:ext cx="8543880" cy="110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ПО поиска данных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79520" y="1186920"/>
            <a:ext cx="8988480" cy="516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ение полнотекстового поиска по ключевым словам, позволяющего осуществлять отбор проиндексированных данных (документов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полнение расширенного поиска, позволяющего осуществлять отбор документов по значениям их атрибу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нотекстовый поиск по ключевым слов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правление сортировкой (ранжированием) результатов поиска документ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равление искажений поискового запроса пользователя вследствие неправильной раскладки клавиат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верку орфографии перед выполнением поиска документов и выдача предложений по корректировке поискового запро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оставление прикладного программного интерфейса поиска данны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обработки результатов отб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e79"/>
                </a:solidFill>
                <a:latin typeface="Calibri"/>
              </a:rPr>
              <a:t>для реализации СПО поиска данных Исполнитель планирует использовать научно-технических задел, полученный в ходе выполнения НИОКР </a:t>
            </a:r>
            <a:br>
              <a:rPr sz="2000"/>
            </a:br>
            <a:r>
              <a:rPr b="0" i="1" lang="ru-RU" sz="2000" spc="-1" strike="noStrike">
                <a:solidFill>
                  <a:srgbClr val="1f4e79"/>
                </a:solidFill>
                <a:latin typeface="Calibri"/>
              </a:rPr>
              <a:t>в интересах ФГКУ «В</a:t>
            </a:r>
            <a:r>
              <a:rPr b="0" i="1" lang="en-US" sz="2000" spc="-1" strike="noStrike">
                <a:solidFill>
                  <a:srgbClr val="1f4e79"/>
                </a:solidFill>
                <a:latin typeface="Calibri"/>
              </a:rPr>
              <a:t>/</a:t>
            </a:r>
            <a:r>
              <a:rPr b="0" i="1" lang="ru-RU" sz="2000" spc="-1" strike="noStrike">
                <a:solidFill>
                  <a:srgbClr val="1f4e79"/>
                </a:solidFill>
                <a:latin typeface="Calibri"/>
              </a:rPr>
              <a:t>ч 71330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5F10-D6F2-4F82-9CBF-51F9D3991B68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0760" y="1652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труктурная схема ОО ПТК Натиск-2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477360" y="0"/>
            <a:ext cx="42876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D1CA-5B6C-449F-9402-0C2FD0604546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-1440" y="1606680"/>
            <a:ext cx="990756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73160"/>
            <a:ext cx="9906120" cy="11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ПО информационно-аналитического портала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87440" y="1454040"/>
            <a:ext cx="91058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7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Управление настройками инфраструктурных элементов ПТ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втоматизация работы пользователя с элементами СПО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 ОПО, используемых в работ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ызов функций СПО и ОПО из единого пользовательского интерфейс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ониторинг работы СПО и ОП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800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1f4e79"/>
                </a:solidFill>
                <a:latin typeface="Calibri"/>
              </a:rPr>
              <a:t>СПО информационно-аналитического портала Исполнитель планирует создавать по технологии «тонкого клиента», с учетом согласованных на этапе ЭТП экранных форм, а также возможностей </a:t>
            </a:r>
            <a:r>
              <a:rPr b="0" i="1" lang="en-US" sz="2600" spc="-1" strike="noStrike">
                <a:solidFill>
                  <a:srgbClr val="1f4e79"/>
                </a:solidFill>
                <a:latin typeface="Calibri"/>
              </a:rPr>
              <a:t>API, </a:t>
            </a:r>
            <a:r>
              <a:rPr b="0" i="1" lang="ru-RU" sz="2600" spc="-1" strike="noStrike">
                <a:solidFill>
                  <a:srgbClr val="1f4e79"/>
                </a:solidFill>
                <a:latin typeface="Calibri"/>
              </a:rPr>
              <a:t>предоставляемых базовыми ОПО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7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4129-8499-4153-95A7-265F22E12E65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66360" y="202680"/>
            <a:ext cx="8543880" cy="12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Основные этапы выполнения ОКР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1120" y="1825560"/>
          <a:ext cx="8543880" cy="3476520"/>
        </p:xfrm>
        <a:graphic>
          <a:graphicData uri="http://schemas.openxmlformats.org/drawingml/2006/table">
            <a:tbl>
              <a:tblPr/>
              <a:tblGrid>
                <a:gridCol w="5476680"/>
                <a:gridCol w="3067200"/>
              </a:tblGrid>
              <a:tr h="542880"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 выпол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7812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Эскизно-техническое проектир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04.2019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15.07.2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776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Разработка РКД, изготовление изделия, проведение МТ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07.2020 – 19.05.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7776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Проведение государственных испытаний и корректировка РК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05.2022 – 15.07.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6568-6E5D-46D4-8D99-39617B1B5E23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0760" y="27612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Этап 1. Эскизно-техническое проектирование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681120" y="1708200"/>
          <a:ext cx="8543880" cy="4635360"/>
        </p:xfrm>
        <a:graphic>
          <a:graphicData uri="http://schemas.openxmlformats.org/drawingml/2006/table">
            <a:tbl>
              <a:tblPr/>
              <a:tblGrid>
                <a:gridCol w="6342120"/>
                <a:gridCol w="2201760"/>
              </a:tblGrid>
              <a:tr h="392400"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00872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предпроектного обследования каждого объекта размещения подкомплексов ОО ПТК «Натиск-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06.2019 - 30.08.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06380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оставление на согласование в ФГКУ «В/ч 71330» отчетов с результатами предпроектного обследования каждого из объектов размещ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09.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4196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чее совещание для обсуждения отчетов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 результатами предпроектного обслед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09.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00872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чее совещание для обсуждения пояснительной записки к эскизно-техническому проекту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О ПТК «Натиск-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5.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1976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емка первого этапа ОК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7.20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113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C924-DA76-4750-910A-C016EBC10FB4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0760" y="1364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Предпроектное обследование каждого объекта размещения ОО ПТК «Натиск-2»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45960" y="1368360"/>
          <a:ext cx="9202680" cy="4449960"/>
        </p:xfrm>
        <a:graphic>
          <a:graphicData uri="http://schemas.openxmlformats.org/drawingml/2006/table">
            <a:tbl>
              <a:tblPr/>
              <a:tblGrid>
                <a:gridCol w="6710400"/>
                <a:gridCol w="2492280"/>
              </a:tblGrid>
              <a:tr h="490680"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дэтап предпроектного обслед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86724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роектное обследование объектов «Натиск-2-М», «Натиск-2-Ц», «Натиск-2-Н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6"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06.2019 - 30.08.20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906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роектное обследование объектов «Натиск-2-З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роектное обследование объектов «Натиск-2-СП», «Натиск-2-П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роектное обследование объектов «Натиск-2-Т», «Натиск-2-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роектное обследование объектов «Натиск-2-Х», «Натиск-2-Ш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проектное обследование объектов «Натиск-2-Б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6" name="Прямоугольник 4"/>
          <p:cNvSpPr/>
          <p:nvPr/>
        </p:nvSpPr>
        <p:spPr>
          <a:xfrm>
            <a:off x="376200" y="5996160"/>
            <a:ext cx="91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e79"/>
                </a:solidFill>
                <a:latin typeface="Calibri"/>
              </a:rPr>
              <a:t>требует согласования с учетом графика командировок и планов отпусков Заказчика, в том числе на удаленных объект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FF0E-8DAF-48E0-881A-B52EB83BB2B6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0760" y="202680"/>
            <a:ext cx="8543880" cy="11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Этап 2. Разработка РКД, изготовление изделия, проведение МТП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31640" y="1368360"/>
          <a:ext cx="9074160" cy="5133960"/>
        </p:xfrm>
        <a:graphic>
          <a:graphicData uri="http://schemas.openxmlformats.org/drawingml/2006/table">
            <a:tbl>
              <a:tblPr/>
              <a:tblGrid>
                <a:gridCol w="6735960"/>
                <a:gridCol w="2338200"/>
              </a:tblGrid>
              <a:tr h="524520"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 выпол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7038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РКД на ОО ПТК «Натиск-2», изготовление ОО ПТК «Натиск-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12.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2452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чее совещание по обсуждению РКД ОО ПТК «Натиск-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12.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038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ка программы и методики ПИ и МТП ОО ПТК «Натиск-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12.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62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чее совещание по обсуждению программы и методики ПИ и МТП ОО ПТК «Натиск-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1.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452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едомление о готовности к проведению П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2.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038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ПИ и МТП ОО ПТК «Натиск-2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03.2022 - 12.05.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2272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емка второго этапа ОК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05.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120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C121-AE53-4A54-B58E-C8B3B0772428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29960"/>
            <a:ext cx="990612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Проведение ПИ и МТП ОО ПТК «Натиск-2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79520" y="1241280"/>
          <a:ext cx="9026280" cy="4067280"/>
        </p:xfrm>
        <a:graphic>
          <a:graphicData uri="http://schemas.openxmlformats.org/drawingml/2006/table">
            <a:tbl>
              <a:tblPr/>
              <a:tblGrid>
                <a:gridCol w="6718320"/>
                <a:gridCol w="2307960"/>
              </a:tblGrid>
              <a:tr h="534960"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дэтап проведения ПИ и МТП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2236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ПИ и МТП ОО ПТК «Натиск-2-З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6"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03.2022 - 12.05.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52236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ПИ и МТП ОО ПТК «Натиск-2-СП», «Натиск-2-П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ПИ  и МТП ОО ПТК «Натиск-2-Т», «Натиск-2-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ПИ и МТП ОО ПТК «Натиск-2-Х», «Натиск-2-Ш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ПИ и МТП ОО ПТК «Натиск-2-Б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376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ПИ и МТП ОО ПТК «Натиск-2-М», «Натиск-2-Ц», «Натиск-2-Н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3" name="Прямоугольник 4"/>
          <p:cNvSpPr/>
          <p:nvPr/>
        </p:nvSpPr>
        <p:spPr>
          <a:xfrm>
            <a:off x="487440" y="5643720"/>
            <a:ext cx="90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4e79"/>
                </a:solidFill>
                <a:latin typeface="Calibri"/>
              </a:rPr>
              <a:t>требует согласования с учетом графика командировок и планов отпусков Заказчика, в том числе на удаленных объект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4D0F1-56A0-4B07-AF65-E4260C2333AC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Этап 3. Проведение государственных испытаний и корректировка РКД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1120" y="2165400"/>
          <a:ext cx="8543880" cy="2898720"/>
        </p:xfrm>
        <a:graphic>
          <a:graphicData uri="http://schemas.openxmlformats.org/drawingml/2006/table">
            <a:tbl>
              <a:tblPr/>
              <a:tblGrid>
                <a:gridCol w="5881680"/>
                <a:gridCol w="2662200"/>
              </a:tblGrid>
              <a:tr h="603360"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та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 выпол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0872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ГИ ОО ПТК «Натиск-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5.2022 - 01.07.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0336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рректировка РКД на ОО ПТК «Натиск-2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7.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048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емка третьего этапа ОК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7.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127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BD3F-A98D-4FD8-8A68-4C714CAE0D01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Проведение ГИ ОО ПТК «Натиск-2»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81120" y="1609560"/>
          <a:ext cx="8543880" cy="3686400"/>
        </p:xfrm>
        <a:graphic>
          <a:graphicData uri="http://schemas.openxmlformats.org/drawingml/2006/table">
            <a:tbl>
              <a:tblPr/>
              <a:tblGrid>
                <a:gridCol w="5992560"/>
                <a:gridCol w="2551320"/>
              </a:tblGrid>
              <a:tr h="496800"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дэтап Г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оки провед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49788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ГИ ОО ПТК «Натиск-2-З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rowSpan="6">
                  <a:txBody>
                    <a:bodyPr lIns="74160" rIns="741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5.2022 - 01.07.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49680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ГИ ОО ПТК «Натиск-2-СП», «Натиск-2-П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88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ГИ ОО ПТК «Натиск-2-Т», «Натиск-2-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644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ГИ ОО ПТК «Натиск-2-Х», «Натиск-2-Ш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24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ГИ ОО ПТК «Натиск-2-Б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дение ГИ ОО ПТК «Натиск-2-М», «Натиск-2-Ц», «Натиск-2-Н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Прямоугольник 2"/>
          <p:cNvSpPr/>
          <p:nvPr/>
        </p:nvSpPr>
        <p:spPr>
          <a:xfrm>
            <a:off x="700200" y="5618160"/>
            <a:ext cx="85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e79"/>
                </a:solidFill>
                <a:latin typeface="Calibri"/>
              </a:rPr>
              <a:t>требует согласования с учетом графика командировок и планов отпусков Заказчика, в том числе на удаленных объект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9391680" y="0"/>
            <a:ext cx="51444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9EBC-CC34-41ED-9152-2BA83DC65D38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0760" y="12528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Задачи ОО ПТК Натиск-2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20840" y="1220400"/>
            <a:ext cx="9136080" cy="534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здание инфраструктуры для разработчиков СпПС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(рабочие места, программное окружение), в том числе с учетом ее распределенности        и с организацией к ней квалифицированного доступ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я виртуальной среды и создание инфраструктуры для построения виртуальных сегментов сет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втоматизация ведения шаблонов виртуальных машин (ОС, СУБД, сервера приложений, службы и сервисы, программное окружение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дение реестра узлов специальной транспортной инфраструктуры, перенаправление сетевых портов и модификация сетевого трафика СпПС с учетом ротирования узлов и замены сетевых адресо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нализ функционирования СпПС в виртуальном сегменте сети (выявление характеристик, анализ трафика, декомпилирование код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9477360" y="0"/>
            <a:ext cx="42876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4DBE-C662-4EBB-A2D1-11784E6E9174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0760" y="1364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ПО ОО ПТК Натиск-2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95160" y="1292040"/>
            <a:ext cx="85442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 администр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 обеспечения безопас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О информационно-аналитического порта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ПО в состав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тивирусные сред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нсляторы и декомпиляторы программного код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A P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а разработк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SD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ПО виртуализ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768240" y="5856120"/>
            <a:ext cx="852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о 3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1.20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Исполнитель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азрабатывает и согласовывает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остав ОО ПТК «Натиск-2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9477360" y="0"/>
            <a:ext cx="42876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5A05-7F36-4692-A889-B56573E873F2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43920"/>
            <a:ext cx="8543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ПО администрирования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4" name="Object 4" descr=""/>
          <p:cNvPicPr/>
          <p:nvPr/>
        </p:nvPicPr>
        <p:blipFill>
          <a:blip r:embed="rId1"/>
          <a:stretch/>
        </p:blipFill>
        <p:spPr>
          <a:xfrm>
            <a:off x="727200" y="1305000"/>
            <a:ext cx="8424720" cy="48895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9477360" y="0"/>
            <a:ext cx="42876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598F-E2A4-4B5B-BC94-7167427F6824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0760" y="10008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ПО создания и обновления образов,</a:t>
            </a:r>
            <a:br>
              <a:rPr sz="3200"/>
            </a:b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ПО резервного копиров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04640" y="1273320"/>
          <a:ext cx="9182160" cy="3306600"/>
        </p:xfrm>
        <a:graphic>
          <a:graphicData uri="http://schemas.openxmlformats.org/drawingml/2006/table">
            <a:tbl>
              <a:tblPr/>
              <a:tblGrid>
                <a:gridCol w="5362920"/>
                <a:gridCol w="3819240"/>
              </a:tblGrid>
              <a:tr h="368280"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ункции С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ложение по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82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ие образов 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onezilla Serv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26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ие локального репозитария пакетов ОП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 внешнем контуре вирту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ОС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bian – apt-mi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ОС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ows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S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1692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здание локальных баз АВС во внешнем контуре вирту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сурсы для АВС Касперский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WEB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во внутреннем контуре вирту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828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правление виртуальными компьютер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Mware vCSA Enterp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2600"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зервное копирование ОС физических и виртуальных маш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eam Back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58" name="Объект 2"/>
          <p:cNvSpPr/>
          <p:nvPr/>
        </p:nvSpPr>
        <p:spPr>
          <a:xfrm>
            <a:off x="449280" y="4714920"/>
            <a:ext cx="9137520" cy="17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 31.08.2019 Исполнитель разрабатывает перечень программных средств организации системного репозитария, в зависимости от типа ОС и пакетов ОП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 31.08.2019 Исполнитель разрабатывает перечень ОПО системы виртуализации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и перечень параметров шаблонов виртуальных компьютер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 30.11.2019 Исполнитель разрабатывает перечень средств резервного копир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9477360" y="0"/>
            <a:ext cx="42876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731FE-CA8B-420E-9D5B-B7AB00D71C2A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99061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ПО защищенного соединения, СПО взаимодействия с ИВС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, 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ПО ведения узлов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Т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53880" y="1347840"/>
          <a:ext cx="9203040" cy="2565360"/>
        </p:xfrm>
        <a:graphic>
          <a:graphicData uri="http://schemas.openxmlformats.org/drawingml/2006/table">
            <a:tbl>
              <a:tblPr/>
              <a:tblGrid>
                <a:gridCol w="4602240"/>
                <a:gridCol w="4600800"/>
              </a:tblGrid>
              <a:tr h="368280"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ункции С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ложение по реа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1692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щищенное соединение между узлами сетевой инфраструктуры, генерация ключей досту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торизация с использованием средств УЦ, OpenVPN Server + OpenVPN Cl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260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ись ключей на USB-токен JaCarta PKI/ГОСТ/Fl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 Аладдин JaCarta ГОСТ для Linux + средства У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260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дение реестра узлов сети, информация о доступности, мониторинг состояния уз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ля реализации используется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T API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казч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62" name="Объект 2"/>
          <p:cNvSpPr/>
          <p:nvPr/>
        </p:nvSpPr>
        <p:spPr>
          <a:xfrm>
            <a:off x="384120" y="4246560"/>
            <a:ext cx="91728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 30.09.2019 Исполнитель разрабатывает перечень средств для замены портов сервисов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внешнего контура виртуализ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 30.11.2019 Исполнитель разрабатывает перечень параметров мониторинга состояния узлов специальной транспортной инфраструкту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 20.12.2019 Исполнитель разрабатывает перечень средств создания защищенных соедин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spcBef>
                <a:spcPts val="6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e79"/>
                </a:solidFill>
                <a:latin typeface="Calibri"/>
              </a:rPr>
              <a:t>для реализации возможности управления ключами доступа к сегментами виртуальной инфраструктуры Исполнитель предлагает использовать средства УЦ                                                            (выбор осуществляется на этапе ЭТП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9477360" y="0"/>
            <a:ext cx="42876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7955-4E35-439C-A067-4DE3D143265F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0760" y="1364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ПО обмена электронной почтой, </a:t>
            </a:r>
            <a:br>
              <a:rPr sz="3200"/>
            </a:b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СПО мгновенного обмена сообщениями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1120" y="1574640"/>
          <a:ext cx="8543880" cy="1981440"/>
        </p:xfrm>
        <a:graphic>
          <a:graphicData uri="http://schemas.openxmlformats.org/drawingml/2006/table">
            <a:tbl>
              <a:tblPr/>
              <a:tblGrid>
                <a:gridCol w="4271760"/>
                <a:gridCol w="4272120"/>
              </a:tblGrid>
              <a:tr h="398880"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ункции СП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ложение по реализ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9888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товый серв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Ser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888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чтовый клиен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nderbi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888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вер обмена сообщен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nF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98880"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иентское при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74160" rIns="7416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nite Realtime Spa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66" name="Объект 2"/>
          <p:cNvSpPr/>
          <p:nvPr/>
        </p:nvSpPr>
        <p:spPr>
          <a:xfrm>
            <a:off x="681120" y="3981600"/>
            <a:ext cx="8543880" cy="22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до 30.09.2019 Исполнитель разрабатывает перечень параметров почтового сервера и параметров очистки почтовых ящ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e79"/>
                </a:solidFill>
                <a:latin typeface="Calibri"/>
              </a:rPr>
              <a:t>для реализации СПО обмена электронной почтой Исполнитель планирует использовать научно-технический задел, полученный в ходе выполнения </a:t>
            </a:r>
            <a:br>
              <a:rPr sz="1800"/>
            </a:br>
            <a:r>
              <a:rPr b="0" i="1" lang="ru-RU" sz="1800" spc="-1" strike="noStrike">
                <a:solidFill>
                  <a:srgbClr val="1f4e79"/>
                </a:solidFill>
                <a:latin typeface="Calibri"/>
              </a:rPr>
              <a:t>НИР «Наставник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1f4e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e79"/>
                </a:solidFill>
                <a:latin typeface="Calibri"/>
              </a:rPr>
              <a:t>для реализации СПО мгновенного обмена сообщениями Исполнитель планирует использовать научно-технический задел, полученный в ходе выполнения </a:t>
            </a:r>
            <a:br>
              <a:rPr sz="1800"/>
            </a:br>
            <a:r>
              <a:rPr b="0" i="1" lang="ru-RU" sz="1800" spc="-1" strike="noStrike">
                <a:solidFill>
                  <a:srgbClr val="1f4e79"/>
                </a:solidFill>
                <a:latin typeface="Calibri"/>
              </a:rPr>
              <a:t>ОКР «Гадалка-М» и ОКР «Галатея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9477360" y="0"/>
            <a:ext cx="42876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A596-7E69-4426-8D7E-CB7B74459BF2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0760" y="10008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СПО обеспечения безопасности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Object 2" descr=""/>
          <p:cNvPicPr/>
          <p:nvPr/>
        </p:nvPicPr>
        <p:blipFill>
          <a:blip r:embed="rId1"/>
          <a:stretch/>
        </p:blipFill>
        <p:spPr>
          <a:xfrm>
            <a:off x="787320" y="1287360"/>
            <a:ext cx="8334360" cy="4973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9"/>
          <p:cNvSpPr/>
          <p:nvPr/>
        </p:nvSpPr>
        <p:spPr>
          <a:xfrm>
            <a:off x="9477360" y="0"/>
            <a:ext cx="428760" cy="285840"/>
          </a:xfrm>
          <a:prstGeom prst="rect">
            <a:avLst/>
          </a:prstGeom>
          <a:solidFill>
            <a:srgbClr val="a93e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60C4-BD46-4005-B27D-0CD416BFB34F}" type="slidenum">
              <a:rPr b="1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10:57:35Z</dcterms:created>
  <dc:creator>Александр А. Кащенко</dc:creator>
  <dc:description/>
  <dc:language>en-US</dc:language>
  <cp:lastModifiedBy>XXX</cp:lastModifiedBy>
  <dcterms:modified xsi:type="dcterms:W3CDTF">2019-03-04T19:45:42Z</dcterms:modified>
  <cp:revision>279</cp:revision>
  <dc:subject/>
  <dc:title>Предложения по реализации</dc:title>
</cp:coreProperties>
</file>